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3DE-707A-4587-9F89-83A443D3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C00-A60D-4B82-9437-2D37B103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D94-D020-4B0C-BE4C-97244D44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DB6-C6C7-438F-9B9E-3DBF2C5A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B36-C50A-4864-B8B6-39B7C86B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712-3569-47E7-B188-092A413E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DEB-9FD2-49DA-B039-AA02C4D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BAC-01E2-43F9-AA30-F294CB8D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207-7E32-4D87-806A-A139F53D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B41-9353-4BF4-94AC-D6BC5F4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661-BD0D-48B0-9E6A-F1C44FD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E1D-2606-458A-9405-83F18FB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F63E-EC0A-4D72-A0F6-7C2B0DFE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400480" cy="47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-2773440" y="-747720"/>
          <a:ext cx="12457080" cy="60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73440" y="-747720"/>
                    <a:ext cx="1245708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9320" y="5105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52680" y="189000"/>
            <a:ext cx="19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M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0 kto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6200" y="5516640"/>
            <a:ext cx="254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LA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 kton liquid ar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39280" y="3500280"/>
            <a:ext cx="19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 kt scint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1080" y="43657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916360" y="4941720"/>
          <a:ext cx="331128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941720"/>
                    <a:ext cx="331128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5:41:24Z</dcterms:created>
  <dc:creator>Luigi Mosca</dc:creator>
  <dc:description/>
  <dc:language>en-US</dc:language>
  <cp:lastModifiedBy>csspier</cp:lastModifiedBy>
  <dcterms:modified xsi:type="dcterms:W3CDTF">2008-09-04T09:42:11Z</dcterms:modified>
  <cp:revision>9</cp:revision>
  <dc:subject/>
  <dc:title>Présentation PowerPoint</dc:title>
</cp:coreProperties>
</file>